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7E9-7AD3-42FE-A25C-DC60BC1D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DA6-F0F6-489C-A9C4-1A9DB6A1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4D6-946F-4984-9515-EFC3DF0B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D7E-58B8-4E4F-899E-B762B893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B582-BB6A-41F1-90CE-5362E558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C9F0-E1AB-4290-BBA2-CAE7BC47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FBE6-E2D3-49D8-86C2-00EB43D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BF23-BB75-4726-86C7-13CA8CE4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EB65-B98B-4246-A973-E4846CC3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0D9B-3C95-4BBD-BEDB-90AFE123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BABF-F36C-4E03-BCC1-9E8331A6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5B9-5BB4-452F-8E3C-E68210CD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646E-AD75-49E3-9544-504AC16C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A297-6187-42E1-8114-CE123797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7F47-334D-47A4-A6CA-13BA9981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6140-1DB5-4B35-AC6B-546DFBF8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5891-B307-4C31-A52A-589821DB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D5D3-F560-44A3-AA98-F21E00B9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F52FF-F155-4B72-8E20-9EABE43D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118F-58D4-40E6-A359-90143A54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66EB-AFD5-48E4-99C7-792983B9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98194-1FB5-4840-A3B0-7F55E7D7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9EB-3987-45F4-8289-CDC5310D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719C-4020-453C-A3D0-D063D43C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9972-1FB7-436D-B848-DDE2034B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2DD74-FCF7-4B78-B620-AD154918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53CD2-8271-4F92-9816-303A66AD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773EB-B3AB-47CA-AEBB-BE36AA51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93205-0C09-4B41-AAA5-00DA99BF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B9F4-50E5-4CD1-A9B2-AACB4FEB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CAD2D-0518-4096-8E65-235EADEC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456B2-997C-4C2E-9D83-7FB24DA8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24436-827D-45A6-B41D-5C6C37D5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854-B43F-4010-A481-149EB947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537BC-272B-42A2-9FD8-E06697D3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B858A-4825-4245-8414-D8A1A10F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1D25D-B6C6-4588-BF9F-71D39EBC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05A33-A07C-4708-8B47-20CEAA66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A69F7-CC97-4F0F-BA6E-9BC19642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10DC1-395E-41FD-BF6C-735A6599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CA921-8483-470B-9075-464871C7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01636-3813-4153-BE73-865155B2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ADD18-D1BB-4EFD-867F-E902A198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EADD4-60AB-4F9B-A45C-24026DDD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8A1-F9DE-46CE-AE61-8A6E42AA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B6A95-D93A-4A3A-A6DC-7E652D72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BAE81-1429-4778-BC46-2A230146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6AF70-B975-4AAF-B243-C3B69B67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57543-468C-431A-B358-48A3A611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BCD20-DC10-4AF3-B026-9D9CB538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49BC8-FAD6-4DEF-A1ED-4D7BD331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25DE7-E031-423E-B6B5-7E622404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3753C-BB30-4D4B-AE10-7D1D745D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B38B4-B391-4F3B-A53C-4082DC21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16630-5884-4C8D-A53C-516266F6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1CC-F487-4DB0-8A75-33D581B3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0B4D8-F27F-4561-85B2-C9030499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2E758-D2BB-4490-8705-1A3E9883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501E3-DFA4-41A2-BEAE-69F618D5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51978-A6A2-4FF1-B5B2-654D9CD1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659B8-EAED-436F-99EC-4D77A327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55EE5-410B-4D8B-8EA5-0CF7E7A8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54C86-BCE0-49E9-890E-BED8B9FF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882BF-11E3-4F9D-A7CE-83BFFE7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E9928-5ADB-4FEB-BCF7-0B7F835B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5CF88-DA9E-4AF4-9DC1-FEE8C19E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814-436A-4629-AD3B-E1FAF3F5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0B53D-59D5-472B-8E05-0E6DC661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50082-38BE-43F5-9400-0C12CEAC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5F728-5FE5-46D7-BC55-16981A61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9E33A-5078-47C6-BB75-9D071D6E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0EA8F-D020-4292-A843-6D05C225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18426-0010-4238-83D9-EC2AB4E3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BE910-DEFD-454D-8DE0-E4B852B6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E8C12-FA7F-44F1-857F-0314B8FC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0AA63-3E94-40BE-ADE0-03249801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791F2-B2B9-49FC-98B6-429E67A1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EA6-0385-43E2-A167-33E2C0C7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B85E-FBAE-4364-B580-475C6EB4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931D6-AD15-4868-BC36-2B2FBC90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06C93-5A28-46D7-A804-98091A67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7CE55-6688-4E1C-A99F-A0260FD9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80CF4-D62A-426E-A6CC-713E2571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FA4-5EEE-48A3-A08C-2A30A2F5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CBCA-BA5D-44D3-92A0-172045B4F0D9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C176-EC60-469C-AB84-B71636903A28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9C83-6B95-45F4-A4F3-6A2142BBD9D1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B147-5064-46A2-9771-9C9D20E9FC2E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6AF5-9DA1-43C9-A3AE-C633FC3DBBFC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DBE0-DCC6-40EE-B694-DA2150B7510E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5466-18BF-4A56-857C-05C706AFF399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Corbel"/>
              </a:rPr>
              <a:t>Sinergetic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Corbel"/>
              </a:rPr>
              <a:t>An interactive GPS-Based tour of Dunedi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571680" y="1600200"/>
            <a:ext cx="811512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First version of the PDA Softw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Supporting documen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92160" y="281160"/>
            <a:ext cx="8502480" cy="1150920"/>
          </a:xfrm>
          <a:prstGeom prst="rect">
            <a:avLst/>
          </a:prstGeom>
          <a:ln w="0">
            <a:noFill/>
          </a:ln>
        </p:spPr>
      </p:pic>
      <p:pic>
        <p:nvPicPr>
          <p:cNvPr id="308" name="Content Placeholder 3" descr="pdamap.jpg"/>
          <p:cNvPicPr/>
          <p:nvPr/>
        </p:nvPicPr>
        <p:blipFill>
          <a:blip r:embed="rId2"/>
          <a:stretch/>
        </p:blipFill>
        <p:spPr>
          <a:xfrm>
            <a:off x="142920" y="1571760"/>
            <a:ext cx="2643120" cy="5073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pdaimgview.jpg"/>
          <p:cNvPicPr/>
          <p:nvPr/>
        </p:nvPicPr>
        <p:blipFill>
          <a:blip r:embed="rId3"/>
          <a:stretch/>
        </p:blipFill>
        <p:spPr>
          <a:xfrm>
            <a:off x="6215040" y="1571760"/>
            <a:ext cx="2714760" cy="5072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sshot001.png"/>
          <p:cNvPicPr/>
          <p:nvPr/>
        </p:nvPicPr>
        <p:blipFill>
          <a:blip r:embed="rId4"/>
          <a:stretch/>
        </p:blipFill>
        <p:spPr>
          <a:xfrm>
            <a:off x="3000240" y="1571760"/>
            <a:ext cx="3071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2" name="Content Placeholder 3" descr="readme.jpg"/>
          <p:cNvPicPr/>
          <p:nvPr/>
        </p:nvPicPr>
        <p:blipFill>
          <a:blip r:embed="rId2"/>
          <a:stretch/>
        </p:blipFill>
        <p:spPr>
          <a:xfrm>
            <a:off x="1285920" y="1571760"/>
            <a:ext cx="61437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Revised version of PDA Softw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rbel"/>
              </a:rPr>
              <a:t>Implementing feedback from cli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PC-Based Tour Edit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Used to create and manipulate tours stored in an XML fi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Wizard-bas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Designed with the non-technical user in mi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Will ship with a number of tutorials (possibly video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Evaluation of second iteration deployment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Review functional requirements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21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Design third iteration build for GPS tour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21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Design update for tour builder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October:  Final build  of Tour builder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October: GPS Tour updates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 Deployment documentation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Final Deployment of packaged product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0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 Complete Documentation for project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5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Prepare for Panel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6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Panel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14:53Z</dcterms:created>
  <dc:creator>Default-User</dc:creator>
  <dc:description/>
  <dc:language>en-US</dc:language>
  <cp:lastModifiedBy>Default-User</cp:lastModifiedBy>
  <dcterms:modified xsi:type="dcterms:W3CDTF">2009-07-31T06:57:49Z</dcterms:modified>
  <cp:revision>18</cp:revision>
  <dc:subject/>
  <dc:title>Sinergetics</dc:title>
</cp:coreProperties>
</file>